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600C4-3645-4112-B382-C26E500E9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BECC8-4987-49C0-B1DC-FD8A124EB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FD0BA-E6DB-45FA-878E-38199E444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776D2-B7DD-40B6-9EBC-AF094C032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78980-CFEC-450E-926D-B8CF59067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41556-76D4-4D62-A192-00A748B81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330D2-DBDF-4FFA-9900-72B04BB72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6C176-4B2D-4424-A3E8-FF56DFA12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604DA-87A7-4650-BC03-0F195AD81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1BCCF-A821-4085-95C6-F0F258D4A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5215E-E1DF-4BEE-A136-70F19F21B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48B03-E327-42AC-811B-03BFBFD89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11329-3100-4C50-87CC-3C91BCE3C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C9F39-A63C-429E-83D1-39A31CBB9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41F2C-7E6D-46C5-9AD1-A612356CD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07710-5D55-4EF0-BB45-EE288CCC2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1D667-313F-4E9F-AE30-12EF4AB40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E625D-C0E9-4258-AE8D-71B6A3100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A9A5C-163F-47C1-BBA1-B87AC5F90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C8129-EEA0-4B62-8FA9-01AE86A18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49DFD-1A6F-49FE-9E18-735AFE0D9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C143C-C2B0-43CB-AAD4-9C01685BA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9D73B-3A02-4037-B17B-7DCBBEA9B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86324-931E-4FA0-B6D6-2FB0D7D82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F00E2-4BE4-4C1F-BE73-0E8C5BBCD352}" type="slidenum">
              <a:rPr b="0" lang="ar-SA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F210A-0E38-4E8F-8EC7-D363F9FCEB12}" type="slidenum">
              <a:rPr b="0" lang="ar-SA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wind.wav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224000" y="838080"/>
            <a:ext cx="6696000" cy="5181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190520" y="843120"/>
            <a:ext cx="6762960" cy="51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8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8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214280" y="852480"/>
            <a:ext cx="6715440" cy="51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8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1224000" y="843120"/>
            <a:ext cx="6696000" cy="51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224000" y="843120"/>
            <a:ext cx="6696000" cy="51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1224000" y="861840"/>
            <a:ext cx="6696000" cy="513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1224000" y="843120"/>
            <a:ext cx="6696000" cy="51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8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8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8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8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1233360" y="833400"/>
            <a:ext cx="6677280" cy="51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1224000" y="852480"/>
            <a:ext cx="6696000" cy="51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214280" y="843120"/>
            <a:ext cx="6715440" cy="51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1224000" y="843120"/>
            <a:ext cx="6696000" cy="51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1224000" y="852480"/>
            <a:ext cx="6696000" cy="51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8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8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25T07:51:07Z</dcterms:created>
  <dc:creator>0mar a. ali</dc:creator>
  <dc:description/>
  <dc:language>en-US</dc:language>
  <cp:lastModifiedBy>0mar a. ali</cp:lastModifiedBy>
  <dcterms:modified xsi:type="dcterms:W3CDTF">2006-06-26T12:21:35Z</dcterms:modified>
  <cp:revision>3</cp:revision>
  <dc:subject/>
  <dc:title>Slide 1</dc:title>
</cp:coreProperties>
</file>